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E6B-699B-45F0-AB54-D3702C65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229-333B-4CA2-8E69-12864FF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959-1CDA-45D5-A5CA-430AB4B3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5BB-B246-484D-A261-513EFE09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0DF-1F31-4F48-9986-67E5339B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6C0-8CF6-4371-A8D0-C182AFF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E7B-559D-4458-89AB-CD827448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E61-2B83-491F-8C19-D86C355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1F4-4EAD-4CB6-9A61-540D3D4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400-FEC1-4A2C-9D30-E8AC57B8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AFB-1B54-4799-80E4-5D77894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AD4-5120-417F-B9E6-07E171E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85F7-B488-42E7-BDCE-45F880AE66B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80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hapter 2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2.1 Informational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3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an informational t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thing that was written mainly to explain or give information about a topic is an informational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types of reading materials are informational tex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30848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920" y="4403880"/>
            <a:ext cx="2225520" cy="245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6084720" y="1427040"/>
            <a:ext cx="3059280" cy="362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19461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the major elements of an information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entral purpos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is the focus of an informational text.  Its what the author wants you to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Major Idea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important point made in a section of informational text.  The supporting details develop and explain the major or main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the major elements of an information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Maps, tables and timelines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visual aid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hat organize a great deal of information in an easy to use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dex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t the end of a book is an alphabetical list of topics in the book and the pages on which they are ment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2:33:03Z</dcterms:created>
  <dc:creator>Jason</dc:creator>
  <dc:description/>
  <dc:language>en-US</dc:language>
  <cp:lastModifiedBy>Jason</cp:lastModifiedBy>
  <cp:lastPrinted>2011-03-09T15:45:32Z</cp:lastPrinted>
  <dcterms:modified xsi:type="dcterms:W3CDTF">2011-03-23T12:04:50Z</dcterms:modified>
  <cp:revision>3</cp:revision>
  <dc:subject/>
  <dc:title>Chapter 2  2.1 Informational Text</dc:title>
</cp:coreProperties>
</file>